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1517-336B-491E-861E-AEF7FAB77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nceives of human beings as parts of a larger whole, lifting them beyond their self-interest and giving content to “empty” universal rules of 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lated to, but not identical with, the </a:t>
            </a: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volk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or nation as a cultural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ar not an occasion for individual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746-51AA-494C-891B-82A26682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987-A271-4C80-8D3D-0229DC4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D99-E9C4-48CA-9FD8-4DBED2E7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E76-CFDD-4390-AA96-7F225BC0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6EE-BA2E-4184-8BD4-6FC057C0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5EF-C61A-4AD6-911F-7B5751FD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2B3-38C2-4EE8-87D1-0243DBD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B0A-0FA2-4F39-8689-ABA290F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CE2-8BDB-481F-A674-77921911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09F-C16A-4039-AC61-921CBD3D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E83-6BE9-4A38-859B-7172F09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403-0473-497B-9222-A80B064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DBF2-2E96-4C01-B32D-F4C35500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3655" b="0"/>
          <a:stretch/>
        </p:blipFill>
        <p:spPr>
          <a:xfrm>
            <a:off x="826920" y="333360"/>
            <a:ext cx="259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the essence of the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can ask you to die fo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cause it embodies the shared values of a people in a rational form (law): it gives rational shape to a cultural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state reconciles the individual to the community without destroying his/her individuality, and gives ethical content to his/he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state as an ethical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 “organic” community composed of classes with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monarch: represents the “unity” and “individuality” of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military: sacrifices itself for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civil servants: embody the “universality” of the values of the state in their concern for the rule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bourgeoi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nation-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nation-state is the self-conscious form of the “spirit” as a purposely cultivated cultural life in ration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gel makes no assumption that there must be one state per nation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ch nation-state a distinct manifestation of spirit and so a form of right: each state is sovereign with respect to every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me states are “higher” manifestations of spirit than others, and have the right to treat the lower manifestations as “barbaria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-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ke individuals, the state requires recognition by other states in order to attain its self-consciousness and individuality, its “ident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cognition demands plurality and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part of the rational process o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“purpose” of war is not to lead to perpetual peace, but to preserve and enhance a particular manifestation of spirit, a cultural identity in ration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ithout th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sibility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f war (of existential conflict), the state would disintegrate into 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ossibility of war is preserved by the sovereignty of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federation of states could not eliminate this possibility without also eliminating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r and 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results from the concern of each state for its own welfare and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enhances shared values – the unity of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ts people out of their concern with material possessions characteristic of civil society: promotes civic virtue (as “selflessnes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nhances the unity of the state which is likely to fragment by prolonge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ar should be limited by the fact of mutual recognition: it ought to come to an end in a way that preserves the possibility of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stility in modern war should be abstract, not individu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ar is a conflict between states, and hence militaries as the class of people who have the function of warmaking in the state and embody its 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et war can always devolve into a war of survival; this is necessary for war to serve it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eatment of soldiers, etc. depends merely on customs, but these customs embody valid conceptions of right in a historical 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modern times war is limited in the European context through common custom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not to b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justifi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with reference to its general salutary effects in any particula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justification of any particular war will always have to do with the specific “welfare” of a state, but not with the abstract preservation of a state’s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story as the unfolding of “spirit” (Geist) in human cult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hilosophy as the retrospective description of the rationality of this unf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the World’s Court of Judgment: the rise and fall of states in history reveals the judgment of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very age, certain states rise to be the representatives of dominant cultural forms that embody certain moments of the histor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gel identifies “Oriental” states, Greece, Rome, and the German states as important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gel predicts that modern warfare will be more “rational” because more abstract and less individu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“individuality” or “sovereignty” of the state is in tension with the idea that war must, and can, b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idea of a historical unfolding of the spirit leading to the ethical state seems to lead to perpetual peace anyway (“The End of Histo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x “inverts” He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tates do not embody any special values; they represent dominan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unfolds in a rational process towards greater freedom and rationality, but through a conflict of classes over resources rather than a conflict of ideas over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dividual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hitherto existing forms of society (including Hegel’s rational state), the individual is alienated from his social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 communist society can the individual be reconciled to the community without losing his or her individ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moral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: There is moral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t: we cannot prove that there is, but the assumption of moral progress makes sense of our duties towards perpetual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: we cannot prove it, but there are strong grounds for assuming some form of moral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irit unfolds towards greater rationality and freedom : there is moral progress for He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the movement from family to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the movement from ancient forms of the state to modern forms of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historical process unfolds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ialecticall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through the tensions among contradictory ideas and the resolution of these tensions in high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ersonal and cultural growth, in particular, depends in part on the struggle for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people define themselves in opposition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forms of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family: the realm of unconditional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 struggle for recognition within the family: the individual is absorbed with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vil society: the realm of self-interested individua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truggle for recognition in civil society gives rise to the free but disconnected individual (he is alienated, as Marx says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state: the ethical re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individual is reconciled to the community in the state, while maintaining his status as a fre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ings are members of families unconditionally; membership does not depend on fre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ty requires the possibilit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s sustained by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family cannot provide a context of recognition necessary for a person to become a free and rational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civil society, human beings appear as possessors of individual rights which they can assert agains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ivil society makes possible individuality through the mutual recognition that conflict and opposition bring; membership depends on free activity, and can be ne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ivil society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cial contract tradition says yes: the state is simply the agency that protects these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22:41:33Z</dcterms:created>
  <dc:creator>Full Name</dc:creator>
  <dc:description/>
  <dc:language>en-US</dc:language>
  <cp:lastModifiedBy>Xavier Marquez</cp:lastModifiedBy>
  <dcterms:modified xsi:type="dcterms:W3CDTF">2008-09-30T18:43:09Z</dcterms:modified>
  <cp:revision>8</cp:revision>
  <dc:subject/>
  <dc:title>Slide 1</dc:title>
</cp:coreProperties>
</file>